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B36-52D5-4BC8-B252-73833CE7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C99-860A-4854-B753-AB59FBB5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F76-2070-4B84-95D3-61CC8576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7AE-5FAD-4F00-A4AF-7FC22F46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F28-FD1C-4D84-8EE0-CBE7BD04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EAC-C223-4399-B234-C5CCB5D3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E78-2435-429B-8AA0-BD85D59E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599-2983-4CB5-B4B9-69F441BE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706-151C-4C9F-9E8A-9E64F29E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433-2E59-48E1-90A3-3A40089C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890-84E2-49BF-BAC3-41F33449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2C6-D806-49C9-88A1-741993CE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0354-61DE-4B1A-B21E-D44B99BA62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Garamond"/>
              </a:rPr>
              <a:t>MODERNÍ METODY TRÉNINK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aramond"/>
              </a:rPr>
              <a:t>IM David Kaňovsk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Havlíčkův Brod, 23. 5. 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POČÍTAČ VERSUS ŽIVÉ PROSTŘED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1) Odpadají časové (finanční) nároky na cest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2) Velmi flexibilní časová doba trén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1) Chybí psychologie osobního konta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2) Trenér postrádá kontrolu toho, co vše svěřenec dělá (či naopak nedělá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WEBINÁŘ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Program MeetCheap – viz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http://www.gogv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Webináře probíhají více než dva roky, účast se poslední dobou pohybuje mezi 40-50 posluchači, několikrát jsme měli více než 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Přihlášeno na webináře je cca </a:t>
            </a:r>
            <a:r>
              <a:rPr b="1" lang="cs-CZ" sz="3200" spc="-1" strike="noStrike">
                <a:solidFill>
                  <a:srgbClr val="000000"/>
                </a:solidFill>
                <a:latin typeface="Garamond"/>
              </a:rPr>
              <a:t>150 dětí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KONFERENČNÍ MÍSTNOST MEETCHE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1) Velmi jednoduché ovládání, k dispozici obraz, zvuk i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2) Nízká cena oproti jiným podobným produktům na trhu (cca 400 Kč za měsí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3) Kapacita až 500 posluchač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1) Nešachové prostředí, šachy je tudíž potřeba implementovat = náročnější příprava přednáš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webinar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8763120" cy="3564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UKÁZKA KONFERENČNÍ MÍST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SK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1) Velmi jednoduché ovládá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2) Zda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3) Možnost sdílení obrazov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1) Nešachové prostře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2) Možnost konferenčních hovorů pouze do výše pěti os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PLAYCH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1) Přirozené šachové prostře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2) Prostředí renomované šachové fir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1) Pro dlouhodobější užívání nutnost placené registrace nejen pro trenéra, ale i posluch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WEBOVÉ STRÁNKY S ŠACHOVÝMI MATERI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https://chesscafe.com/</a:t>
            </a: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 - každý den nové články, příklady k řešení z taktiky i koncovek a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www.strmilov.cz</a:t>
            </a: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 - sekce Šachy – mnoho materiál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www.chess.cz/mládež/metodické materiály</a:t>
            </a: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 – řada velmi pěkných materiálů v pgn/cbv i 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www.chess.com</a:t>
            </a: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 - velmi propracovaný server s řadou sekcí, úloh, videí atd.; bezplatná registrace = možnost vyzkoušet, placená registrace od cca 700,- Kč do 2500,- Kč za rok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WEBOVÉ STRÁNKY S ŠACHOVÝMI MATERI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http://chesstempo.com/</a:t>
            </a: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 - podobný web jako chess.com = mnoho příkladů na taktiku; úvodní registrace zda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http://dejascacchi.altervista.org/exercises.htm</a:t>
            </a: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 - příklady k řešení z různých kategorií i obtížností, ovšem převážně pouze k tis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http://learningchess.net/</a:t>
            </a: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 - velmi pěkný web, jednoduché a příjemné prostředí, registrace zdarma na ukázku, vyšší „členství“ nikterak dra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8:55:28Z</dcterms:created>
  <dc:creator>dejf761</dc:creator>
  <dc:description/>
  <dc:language>en-US</dc:language>
  <cp:lastModifiedBy>dejf761</cp:lastModifiedBy>
  <dcterms:modified xsi:type="dcterms:W3CDTF">2015-05-22T12:16:28Z</dcterms:modified>
  <cp:revision>23</cp:revision>
  <dc:subject/>
  <dc:title>PowerPoint Presentation</dc:title>
</cp:coreProperties>
</file>